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F5BE-E71F-45A9-8837-AFFC23B4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6619-79A0-49D9-ACD9-CBC14EE9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6E9E5-B232-432F-AF3F-AAF5F53F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BC35-ACC5-413B-A59C-FC2B1AE0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A5A94-52A3-4C37-A303-CFA179DA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8523F-C59D-495A-8679-DC2F2B45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DBB0-6747-466A-B14E-FFC147D7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7D5A-8B54-4DD7-93C2-C716C0B4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73F5-2C45-48E1-8AE5-4C4C0E79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D892-47CA-4392-8E00-B1C0A8C5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4DE1-02DC-461E-9833-2F803DB8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BAC9-9A49-4FCF-96A7-4395D4D9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AB396-EA0E-469C-B979-4252A68B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D6517-66DB-482F-94D5-41CCEA05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A9D4E-B223-4AEE-B609-702724B8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63E88-19CD-406C-B60E-A0DD372B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9A2F2-659E-4E51-8373-CA7FD9F0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96E8E-A39D-4C5D-82EE-2BF2FD7A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7F662-EC82-4E97-9065-D9401F8B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FB757-172E-4592-899F-C049E8BB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C40C6-BAEF-4FF2-8D14-3E48500A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17717-3462-4D22-986C-A0813336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DDAA2-67E4-4612-A36E-7BFF09FE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3592A-EC0F-4811-9C29-B6953436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907920"/>
            <a:ext cx="8229600" cy="23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Polosa-right-(01)"/>
          <p:cNvPicPr/>
          <p:nvPr/>
        </p:nvPicPr>
        <p:blipFill>
          <a:blip r:embed="rId2"/>
          <a:stretch/>
        </p:blipFill>
        <p:spPr>
          <a:xfrm>
            <a:off x="5705640" y="4680"/>
            <a:ext cx="343836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25"/>
          <p:cNvGrpSpPr/>
          <p:nvPr/>
        </p:nvGrpSpPr>
        <p:grpSpPr>
          <a:xfrm>
            <a:off x="612720" y="0"/>
            <a:ext cx="1703520" cy="6858000"/>
            <a:chOff x="612720" y="0"/>
            <a:chExt cx="1703520" cy="6858000"/>
          </a:xfrm>
        </p:grpSpPr>
        <p:sp>
          <p:nvSpPr>
            <p:cNvPr id="2" name="Rectangle 16"/>
            <p:cNvSpPr/>
            <p:nvPr/>
          </p:nvSpPr>
          <p:spPr>
            <a:xfrm>
              <a:off x="757080" y="0"/>
              <a:ext cx="155916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7"/>
            <p:cNvSpPr/>
            <p:nvPr/>
          </p:nvSpPr>
          <p:spPr>
            <a:xfrm>
              <a:off x="612720" y="0"/>
              <a:ext cx="8892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18"/>
          <p:cNvSpPr/>
          <p:nvPr/>
        </p:nvSpPr>
        <p:spPr>
          <a:xfrm>
            <a:off x="0" y="434880"/>
            <a:ext cx="914400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12720" y="46980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400" spc="-1" strike="noStrike">
                <a:solidFill>
                  <a:srgbClr val="eee0de"/>
                </a:solidFill>
                <a:latin typeface="Arial"/>
              </a:rPr>
              <a:t>ВОЛИНСЬКА ОБЛАСНА ДЕРЖАВНА АДМІНІСТ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7" descr="Gerb-Vol-2011-01-sm"/>
          <p:cNvPicPr/>
          <p:nvPr/>
        </p:nvPicPr>
        <p:blipFill>
          <a:blip r:embed="rId3"/>
          <a:stretch/>
        </p:blipFill>
        <p:spPr>
          <a:xfrm>
            <a:off x="8047080" y="349200"/>
            <a:ext cx="527040" cy="5828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425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82520">
              <a:spcBef>
                <a:spcPts val="4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9856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35" descr="Tryzub-00-(postanova)-sm"/>
          <p:cNvPicPr/>
          <p:nvPr/>
        </p:nvPicPr>
        <p:blipFill>
          <a:blip r:embed="rId4"/>
          <a:stretch/>
        </p:blipFill>
        <p:spPr>
          <a:xfrm>
            <a:off x="1017720" y="368280"/>
            <a:ext cx="439560" cy="61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2" descr="Polosa-right-(01)"/>
          <p:cNvPicPr/>
          <p:nvPr/>
        </p:nvPicPr>
        <p:blipFill>
          <a:blip r:embed="rId2"/>
          <a:stretch/>
        </p:blipFill>
        <p:spPr>
          <a:xfrm>
            <a:off x="5705640" y="4680"/>
            <a:ext cx="3438360" cy="68533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25"/>
          <p:cNvGrpSpPr/>
          <p:nvPr/>
        </p:nvGrpSpPr>
        <p:grpSpPr>
          <a:xfrm>
            <a:off x="612720" y="0"/>
            <a:ext cx="1703520" cy="6858000"/>
            <a:chOff x="612720" y="0"/>
            <a:chExt cx="1703520" cy="6858000"/>
          </a:xfrm>
        </p:grpSpPr>
        <p:sp>
          <p:nvSpPr>
            <p:cNvPr id="48" name="Rectangle 16"/>
            <p:cNvSpPr/>
            <p:nvPr/>
          </p:nvSpPr>
          <p:spPr>
            <a:xfrm>
              <a:off x="757080" y="0"/>
              <a:ext cx="155916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7"/>
            <p:cNvSpPr/>
            <p:nvPr/>
          </p:nvSpPr>
          <p:spPr>
            <a:xfrm>
              <a:off x="612720" y="0"/>
              <a:ext cx="8892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8"/>
          <p:cNvSpPr/>
          <p:nvPr/>
        </p:nvSpPr>
        <p:spPr>
          <a:xfrm>
            <a:off x="0" y="434880"/>
            <a:ext cx="914400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612720" y="46980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400" spc="-1" strike="noStrike">
                <a:solidFill>
                  <a:srgbClr val="eee0de"/>
                </a:solidFill>
                <a:latin typeface="Arial"/>
              </a:rPr>
              <a:t>ВОЛИНСЬКА ОБЛАСНА ДЕРЖАВНА АДМІНІСТ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7" descr="Gerb-Vol-2011-01-sm"/>
          <p:cNvPicPr/>
          <p:nvPr/>
        </p:nvPicPr>
        <p:blipFill>
          <a:blip r:embed="rId3"/>
          <a:stretch/>
        </p:blipFill>
        <p:spPr>
          <a:xfrm>
            <a:off x="8047080" y="349200"/>
            <a:ext cx="527040" cy="58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5" descr="Tryzub-00-(postanova)-sm"/>
          <p:cNvPicPr/>
          <p:nvPr/>
        </p:nvPicPr>
        <p:blipFill>
          <a:blip r:embed="rId4"/>
          <a:stretch/>
        </p:blipFill>
        <p:spPr>
          <a:xfrm>
            <a:off x="1017720" y="368280"/>
            <a:ext cx="439560" cy="612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S-1-Fon-01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3"/>
          <p:cNvGrpSpPr/>
          <p:nvPr/>
        </p:nvGrpSpPr>
        <p:grpSpPr>
          <a:xfrm>
            <a:off x="404640" y="0"/>
            <a:ext cx="1703520" cy="6858000"/>
            <a:chOff x="404640" y="0"/>
            <a:chExt cx="1703520" cy="6858000"/>
          </a:xfrm>
        </p:grpSpPr>
        <p:sp>
          <p:nvSpPr>
            <p:cNvPr id="56" name="Rectangle 4"/>
            <p:cNvSpPr/>
            <p:nvPr/>
          </p:nvSpPr>
          <p:spPr>
            <a:xfrm>
              <a:off x="549000" y="0"/>
              <a:ext cx="155916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"/>
            <p:cNvSpPr/>
            <p:nvPr/>
          </p:nvSpPr>
          <p:spPr>
            <a:xfrm>
              <a:off x="404640" y="0"/>
              <a:ext cx="8892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0" y="434880"/>
            <a:ext cx="914400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12720" y="46980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400" spc="-1" strike="noStrike">
                <a:solidFill>
                  <a:srgbClr val="eee0de"/>
                </a:solidFill>
                <a:latin typeface="Arial"/>
              </a:rPr>
              <a:t>ВОЛИНСЬКА ОБЛАСНА ДЕРЖАВНА АДМІНІСТ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3" descr="Prapor-0"/>
          <p:cNvPicPr/>
          <p:nvPr/>
        </p:nvPicPr>
        <p:blipFill>
          <a:blip r:embed="rId6"/>
          <a:stretch/>
        </p:blipFill>
        <p:spPr>
          <a:xfrm>
            <a:off x="1241280" y="587520"/>
            <a:ext cx="976320" cy="69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Prapor-Vol-2011-01"/>
          <p:cNvPicPr/>
          <p:nvPr/>
        </p:nvPicPr>
        <p:blipFill>
          <a:blip r:embed="rId7"/>
          <a:stretch/>
        </p:blipFill>
        <p:spPr>
          <a:xfrm>
            <a:off x="7413480" y="539640"/>
            <a:ext cx="1036800" cy="76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Prapor-UA-2011-03"/>
          <p:cNvPicPr/>
          <p:nvPr/>
        </p:nvPicPr>
        <p:blipFill>
          <a:blip r:embed="rId8"/>
          <a:stretch/>
        </p:blipFill>
        <p:spPr>
          <a:xfrm>
            <a:off x="1211400" y="539640"/>
            <a:ext cx="104292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6" descr="Tryzub-00-(postanova)-sm"/>
          <p:cNvPicPr/>
          <p:nvPr/>
        </p:nvPicPr>
        <p:blipFill>
          <a:blip r:embed="rId9"/>
          <a:stretch/>
        </p:blipFill>
        <p:spPr>
          <a:xfrm>
            <a:off x="888840" y="879480"/>
            <a:ext cx="439920" cy="61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1" descr="Gerb-Vol-2011-01-sm"/>
          <p:cNvPicPr/>
          <p:nvPr/>
        </p:nvPicPr>
        <p:blipFill>
          <a:blip r:embed="rId10"/>
          <a:stretch/>
        </p:blipFill>
        <p:spPr>
          <a:xfrm>
            <a:off x="8142120" y="901800"/>
            <a:ext cx="527040" cy="582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425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82520">
              <a:spcBef>
                <a:spcPts val="4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9856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2" descr="Polosa-right-(01)"/>
          <p:cNvPicPr/>
          <p:nvPr/>
        </p:nvPicPr>
        <p:blipFill>
          <a:blip r:embed="rId2"/>
          <a:stretch/>
        </p:blipFill>
        <p:spPr>
          <a:xfrm>
            <a:off x="5705640" y="4680"/>
            <a:ext cx="343836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25"/>
          <p:cNvGrpSpPr/>
          <p:nvPr/>
        </p:nvGrpSpPr>
        <p:grpSpPr>
          <a:xfrm>
            <a:off x="612720" y="0"/>
            <a:ext cx="1703520" cy="6858000"/>
            <a:chOff x="612720" y="0"/>
            <a:chExt cx="1703520" cy="6858000"/>
          </a:xfrm>
        </p:grpSpPr>
        <p:sp>
          <p:nvSpPr>
            <p:cNvPr id="105" name="Rectangle 16"/>
            <p:cNvSpPr/>
            <p:nvPr/>
          </p:nvSpPr>
          <p:spPr>
            <a:xfrm>
              <a:off x="757080" y="0"/>
              <a:ext cx="155916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7"/>
            <p:cNvSpPr/>
            <p:nvPr/>
          </p:nvSpPr>
          <p:spPr>
            <a:xfrm>
              <a:off x="612720" y="0"/>
              <a:ext cx="8892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8"/>
          <p:cNvSpPr/>
          <p:nvPr/>
        </p:nvSpPr>
        <p:spPr>
          <a:xfrm>
            <a:off x="0" y="434880"/>
            <a:ext cx="914400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612720" y="46980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400" spc="-1" strike="noStrike">
                <a:solidFill>
                  <a:srgbClr val="eee0de"/>
                </a:solidFill>
                <a:latin typeface="Arial"/>
              </a:rPr>
              <a:t>ВОЛИНСЬКА ОБЛАСНА ДЕРЖАВНА АДМІНІСТ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7" descr="Gerb-Vol-2011-01-sm"/>
          <p:cNvPicPr/>
          <p:nvPr/>
        </p:nvPicPr>
        <p:blipFill>
          <a:blip r:embed="rId3"/>
          <a:stretch/>
        </p:blipFill>
        <p:spPr>
          <a:xfrm>
            <a:off x="8047080" y="349200"/>
            <a:ext cx="527040" cy="582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" descr="Tryzub-00-(postanova)-sm"/>
          <p:cNvPicPr/>
          <p:nvPr/>
        </p:nvPicPr>
        <p:blipFill>
          <a:blip r:embed="rId4"/>
          <a:stretch/>
        </p:blipFill>
        <p:spPr>
          <a:xfrm>
            <a:off x="1017720" y="368280"/>
            <a:ext cx="439560" cy="612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425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82520">
              <a:spcBef>
                <a:spcPts val="4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9856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0C8E-9685-4D4C-ABAC-D7980D706C64}" type="slidenum">
              <a:rPr b="0" lang="uk-U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2" descr="Polosa-right-(01)"/>
          <p:cNvPicPr/>
          <p:nvPr/>
        </p:nvPicPr>
        <p:blipFill>
          <a:blip r:embed="rId2"/>
          <a:stretch/>
        </p:blipFill>
        <p:spPr>
          <a:xfrm>
            <a:off x="5705640" y="4680"/>
            <a:ext cx="3438360" cy="685332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25"/>
          <p:cNvGrpSpPr/>
          <p:nvPr/>
        </p:nvGrpSpPr>
        <p:grpSpPr>
          <a:xfrm>
            <a:off x="612720" y="0"/>
            <a:ext cx="1703520" cy="6858000"/>
            <a:chOff x="612720" y="0"/>
            <a:chExt cx="1703520" cy="6858000"/>
          </a:xfrm>
        </p:grpSpPr>
        <p:sp>
          <p:nvSpPr>
            <p:cNvPr id="154" name="Rectangle 16"/>
            <p:cNvSpPr/>
            <p:nvPr/>
          </p:nvSpPr>
          <p:spPr>
            <a:xfrm>
              <a:off x="757080" y="0"/>
              <a:ext cx="155916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7"/>
            <p:cNvSpPr/>
            <p:nvPr/>
          </p:nvSpPr>
          <p:spPr>
            <a:xfrm>
              <a:off x="612720" y="0"/>
              <a:ext cx="88920" cy="6858000"/>
            </a:xfrm>
            <a:prstGeom prst="rect">
              <a:avLst/>
            </a:prstGeom>
            <a:solidFill>
              <a:srgbClr val="fff3f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18"/>
          <p:cNvSpPr/>
          <p:nvPr/>
        </p:nvSpPr>
        <p:spPr>
          <a:xfrm>
            <a:off x="0" y="434880"/>
            <a:ext cx="914400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612720" y="469800"/>
            <a:ext cx="85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400" spc="-1" strike="noStrike">
                <a:solidFill>
                  <a:srgbClr val="eee0de"/>
                </a:solidFill>
                <a:latin typeface="Arial"/>
              </a:rPr>
              <a:t>ВОЛИНСЬКА ОБЛАСНА ДЕРЖАВНА АДМІНІСТРАЦІ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7" descr="Gerb-Vol-2011-01-sm"/>
          <p:cNvPicPr/>
          <p:nvPr/>
        </p:nvPicPr>
        <p:blipFill>
          <a:blip r:embed="rId3"/>
          <a:stretch/>
        </p:blipFill>
        <p:spPr>
          <a:xfrm>
            <a:off x="8047080" y="349200"/>
            <a:ext cx="527040" cy="582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5" descr="Tryzub-00-(postanova)-sm"/>
          <p:cNvPicPr/>
          <p:nvPr/>
        </p:nvPicPr>
        <p:blipFill>
          <a:blip r:embed="rId4"/>
          <a:stretch/>
        </p:blipFill>
        <p:spPr>
          <a:xfrm>
            <a:off x="1017720" y="368280"/>
            <a:ext cx="439560" cy="6127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-220680">
              <a:spcBef>
                <a:spcPts val="425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182520">
              <a:spcBef>
                <a:spcPts val="4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98560" indent="-19692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104840" indent="-174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7750-CF0D-4C02-A8DF-3AFA569DD405}" type="slidenum">
              <a:rPr b="0" lang="uk-U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28240" y="17524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0680" indent="-220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13f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1295280" y="1600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60e06"/>
                </a:solidFill>
                <a:latin typeface="Arial"/>
              </a:rPr>
              <a:t>Дорожня кар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533520" y="312408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0680" indent="-220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e06"/>
                </a:solidFill>
                <a:latin typeface="Arial"/>
              </a:rPr>
              <a:t>отримання суб'єктами господарювання державної підтримки, передбаченої законодавством України, для реалізації інвестиційних проектів у пріоритетн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0e06"/>
                </a:solidFill>
                <a:latin typeface="Arial"/>
              </a:rPr>
              <a:t>галузях економі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240" y="12949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56c05"/>
                </a:solidFill>
                <a:latin typeface="Arial"/>
              </a:rPr>
              <a:t>Етап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Після схвале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Кабінетом Міністрів України інвестиційних проектів у пріоритетних галузях економіки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Мінекономрозвитку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протягом п’яти робочих дн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здійснює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їх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державну реєстрацію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шляхом внесення відомостей про ці проекти до Державного реєстру інвестиційних проектів у пріоритетних галузях економіки, який розміщується на офіційному веб-сайті Мінекономрозви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сля державної реєстрації інвестиційних проектів Мінекономрозвитку повідомляє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у дводенний строк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блдержадміністрації  про схвалення Кабінетом Міністрів України зазначених проектів та їх державну реєстрацію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несення відомостей до Реєстру здійснюється шляхом заповнення реєстраційної картки інвестиційного проекту за затвердженою Мінекономрозвитку формою (Наказ від 12.12.2013 № 1474 "Про затвердження форми реєстраційної картки інвестиційного проекту у пріоритетній галузі економіки";), що містит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гальні відомості про суб’єкта господарю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казники-індикатори інвестиційного проекту після реєстрації (загальна кошторисна вартість проекту; кількість створених нових робочих місць для працівників, які безпосередньо задіяні у виробничих процесах; середня заробітна плата працівників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e06"/>
                </a:solidFill>
                <a:latin typeface="Arial"/>
              </a:rPr>
              <a:t>Отримання державної підтримки для реалізації інвестиційних проектів у пріоритетних галузях економіки</a:t>
            </a:r>
            <a:endParaRPr b="1" lang="en-US" sz="16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18160" indent="-4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Після схвалення Кабінетом Міністрів України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 інвестиційного </a:t>
            </a:r>
            <a:br>
              <a:rPr sz="1800"/>
            </a:b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проекту суб’єкт господарювання 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набуває право на отримання державної підтримки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одаткуванн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прибутк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отриманого від реалізації інвестиційних проекті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 01.01.2018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 01.01.2018 до 01.01.2023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 01.01.2023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(звичайна ставка податку на прибуток з 1 січня 2013 року - 19%, з 1 січня 2014 року - 1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У разі затвердження Кабінетом Міністрів України порядку ввезення, переліку та обсягів товарів,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що ввозяться для реалізації інвестиційного проекту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 одночасно із схваленням такого проекту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дання до 31.12.2022 включно митному органу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даткового вексел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на суму податкового зобов'язання з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Д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троком на 60 днів для ввезення в Україну устаткування (обладнання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 комплектуючих виробів до нього, що звільняються від оподаткування ввізним ми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ільнення до 01.01.2018 від оподаткуванн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візним мит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устаткування (обладнання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 комплектуючих виробів до нього за умови, що зазначені това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а) не є підакциз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б) виготовлені не більше трьох років до моменту державної реєстрації інвестиційного проекту та не були у використанн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160" indent="-453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в) не виробляються в Україні та не мають аналогів в Украї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0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У разі виявлення суб’єктом господарювання бажання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 отримати державну підтримку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для реалізації інвестиційного проекту у пріоритетній галузі економіки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 за рахунок коштів державного чи місцевого бюджетів,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відповідний</a:t>
            </a:r>
            <a:r>
              <a:rPr b="1" lang="en-US" sz="1800" spc="-1" strike="noStrike">
                <a:solidFill>
                  <a:srgbClr val="0713f9"/>
                </a:solidFill>
                <a:latin typeface="Arial"/>
              </a:rPr>
              <a:t> проект повинен бути включений також до Державного реєстру інвестиційних проектів та проектних (інвестиційних) пропозицій </a:t>
            </a:r>
            <a:r>
              <a:rPr b="0" lang="en-US" sz="1800" spc="-1" strike="noStrike">
                <a:solidFill>
                  <a:srgbClr val="0713f9"/>
                </a:solidFill>
                <a:latin typeface="Arial"/>
              </a:rPr>
              <a:t>у порядку, встановленому статтею 12-2 Закону України "Про інвестиційну діяльність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80880" y="1143000"/>
            <a:ext cx="82296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60e06"/>
                </a:solidFill>
                <a:latin typeface="Arial"/>
              </a:rPr>
              <a:t>Отримання державної підтримки для реалізації інвестиційних проектів у пріоритетних галузях економі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686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560e06"/>
                </a:solidFill>
                <a:latin typeface="Arial"/>
              </a:rPr>
              <a:t>Нормативно-правова основа стимулювання інвестиційної діяльності у пріоритетних галузях економіки з метою створення нових робочих місць</a:t>
            </a:r>
            <a:endParaRPr b="1" lang="en-US" sz="18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Закон України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“Про стимулювання інвестиційної діяльності у пріоритетних галузях економіки з метою створення нових робочих місць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Постанова Кабінету Міністрів України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</a:t>
            </a:r>
            <a:br>
              <a:rPr sz="1800"/>
            </a:b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від 14.08.2013 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№ 715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“Про затвердження </a:t>
            </a:r>
            <a:br>
              <a:rPr sz="1800"/>
            </a:b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Порядку відбору, схвалення і реєстрації інвестиційних проектів у пріоритетних галузях економіки та вимог до таких проектів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Розпорядження Кабінету Міністрів України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</a:t>
            </a:r>
            <a:br>
              <a:rPr sz="1800"/>
            </a:b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від 14.08.2013 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№ 843-р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 “Про затвердження </a:t>
            </a:r>
            <a:br>
              <a:rPr sz="1800"/>
            </a:b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переліку пріоритетних галузей економік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Накази </a:t>
            </a:r>
            <a:r>
              <a:rPr b="1" lang="uk-UA" sz="1800" spc="-1" strike="noStrike">
                <a:solidFill>
                  <a:srgbClr val="0713f9"/>
                </a:solidFill>
                <a:latin typeface="Arial"/>
              </a:rPr>
              <a:t>Мінекономрозвитк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від 12.12.2013 № 1475 "Про затвердження форми заяви для участі у відборі інвестиційних проектів у пріоритетних галузях економіки та інструкції щодо її заповнення“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від 12.12.2013 № 1474 "Про затвердження форми реєстраційної кар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2680" indent="-20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713f9"/>
                </a:solidFill>
                <a:latin typeface="Arial"/>
              </a:rPr>
              <a:t>інвестиційного проекту у пріоритетній галузі економіки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0e06"/>
                </a:solidFill>
                <a:latin typeface="Arial"/>
              </a:rPr>
              <a:t>Критерії відбору інвестиційних проектів у пріоритетних галузях економіки </a:t>
            </a:r>
            <a:endParaRPr b="1" lang="en-US" sz="24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0680" indent="-220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200" spc="-1" strike="noStrike">
                <a:solidFill>
                  <a:srgbClr val="0713f9"/>
                </a:solidFill>
                <a:latin typeface="Arial"/>
              </a:rPr>
              <a:t>Для отримання державної підтримки інвестиційний проект </a:t>
            </a:r>
            <a:r>
              <a:rPr b="1" lang="uk-UA" sz="2200" spc="-1" strike="noStrike">
                <a:solidFill>
                  <a:srgbClr val="0713f9"/>
                </a:solidFill>
                <a:latin typeface="Arial"/>
              </a:rPr>
              <a:t>має відповідати таким критеріям</a:t>
            </a:r>
            <a:r>
              <a:rPr b="0" lang="uk-UA" sz="2200" spc="-1" strike="noStrike">
                <a:solidFill>
                  <a:srgbClr val="0713f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гальна кошторисна вартіст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проекту має перевищувати суму, еквівалентн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3 мільйонам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велик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1 мільйону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середнь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500 тисячам євро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мал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кількість створених нових робочих місць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для працівників, які безпосередньо задіяні у виробничих процесах, має перевищува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150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велик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50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середнь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46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25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- для суб’єктів малого підприємниц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ередня заробітна плата працівників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має бути не менш як </a:t>
            </a:r>
            <a:br>
              <a:rPr sz="1600"/>
            </a:b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у 2,5 раза вища за розмір мінімальної заробітної пла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ВИМОГИ до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713f9"/>
                </a:solidFill>
                <a:latin typeface="Arial"/>
              </a:rPr>
              <a:t>Інвестиційні проекти у пріоритетних галузях економіки повинні відповідати таким вимог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5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алізація проекту передбачаєтьс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у пріоритетній галузі економіки, визначеній Кабінетом Міністрів Украї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на новоствореному або діючому підприємстві, на якому буде проведено реконструкцію або модернізаці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5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56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еалізація проекту передбачає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виділення окремого структурного підрозділу, на якому планується реалізація інвестиційного про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 досягнення протягом двох років з дня державної реєстрації інвестиційного проекту у пріоритетній галузі економіки показників, установлених частиною другою статті 4 Закону України 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Про стимулювання інвестиційної діяльності у пріоритетних галузях економіки з метою створення нових робочих місць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(кошторисна вартість  від 0,5 до 3 млн.Євро, створення нових робочих місць більше 25-150, середня заробітна плат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менше як у 2,5 раза перевищує розмір мінімальної заробітної плати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0e06"/>
                </a:solidFill>
                <a:latin typeface="Arial"/>
              </a:rPr>
              <a:t>ПЕРЕЛІК пріоритетних галузей економіки</a:t>
            </a:r>
            <a:endParaRPr b="1" lang="en-US" sz="24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713f9"/>
                </a:solidFill>
                <a:latin typeface="Arial"/>
              </a:rPr>
              <a:t>(затверджено розпорядженням Кабінету Міністрів України від 14.08.2013 № 843-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гропромисловий компле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виробництво, зберігання харчових продуктів, в тому числі дитячого харчування,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а також виробництво біопалива, з орієнтацією на імпортозаміщ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Житлово-комунальний комплек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створення об’єктів поводження з відходами (побутовими, промисловими та відходами,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які утворилися в результаті добування та перероблення корисних копалин і виробництва електричної та теплової енергії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, реконструкція і технічне переоснащення у сфері теплопостачання, централізованого водопостачання та водовідвед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Машинобудівний комплек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виробництво нових та імпортозаміщуючих видів комп’ютерів, електронної та оптичної </a:t>
            </a:r>
            <a:br>
              <a:rPr sz="1400"/>
            </a:b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продукції, машин і устатковання, електричного устатковання, автотранспортних та інших транспортних засоб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Транспортна інфраструкту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, реконструкція і технічне переоснащення у сфері транспортної інфраструк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урортно-рекреаційна сфера і туриз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будівництво курортно-рекреаційних об’єктів та об’єктів туристичної інфраструкту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361800">
              <a:lnSpc>
                <a:spcPct val="80000"/>
              </a:lnSpc>
              <a:spcBef>
                <a:spcPts val="349"/>
              </a:spcBef>
              <a:buClr>
                <a:srgbClr val="f56c05"/>
              </a:buClr>
              <a:buSzPct val="13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ереробна промислові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713f9"/>
                </a:solidFill>
                <a:latin typeface="Arial"/>
              </a:rPr>
              <a:t>імпортозаміщуюче металургійне виробниц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28240" y="9907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56c05"/>
                </a:solidFill>
                <a:latin typeface="Arial"/>
              </a:rPr>
              <a:t>Етап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Суб’єкти господарювання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, що мають намір взяти участь у відборі інвестиційних проектів у пріоритетних галузях економіки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подають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обласним, державним адміністраціям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заяву разом із відповідними документами (п.2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713f9"/>
                </a:solidFill>
                <a:latin typeface="Arial"/>
              </a:rPr>
              <a:t>Порядку відбору, схвалення і реєстрації інвестиційних проектів у пріоритетних галузях економіки та вимог до таких проектів”</a:t>
            </a:r>
            <a:r>
              <a:rPr b="1" lang="uk-UA" sz="1600" spc="-1" strike="noStrike">
                <a:solidFill>
                  <a:srgbClr val="0713f9"/>
                </a:solidFill>
                <a:latin typeface="Arial"/>
              </a:rPr>
              <a:t> (затвердженого постановою Кабінету Міністрів України</a:t>
            </a:r>
            <a:r>
              <a:rPr b="0" lang="uk-UA" sz="1600" spc="-1" strike="noStrike">
                <a:solidFill>
                  <a:srgbClr val="0713f9"/>
                </a:solidFill>
                <a:latin typeface="Arial"/>
              </a:rPr>
              <a:t> від 14.08.2013 </a:t>
            </a:r>
            <a:r>
              <a:rPr b="1" lang="uk-UA" sz="1600" spc="-1" strike="noStrike">
                <a:solidFill>
                  <a:srgbClr val="0713f9"/>
                </a:solidFill>
                <a:latin typeface="Arial"/>
              </a:rPr>
              <a:t>№ 715</a:t>
            </a:r>
            <a:r>
              <a:rPr b="0" lang="uk-UA" sz="1600" spc="-1" strike="noStrike">
                <a:solidFill>
                  <a:srgbClr val="0713f9"/>
                </a:solidFill>
                <a:latin typeface="Arial"/>
              </a:rPr>
              <a:t> 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сновки незалежних експертних організацій (за наявності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пія інвестиційного проекту, що прошита, пронумерована, засвідчена підписом уповноваженої особи суб’єкта господарювання, а також скріплена печаткою (для юридичної особ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 (в</a:t>
            </a:r>
            <a:r>
              <a:rPr b="0" i="1" lang="uk-UA" sz="1400" spc="-1" strike="noStrike">
                <a:solidFill>
                  <a:srgbClr val="000000"/>
                </a:solidFill>
                <a:latin typeface="Arial"/>
              </a:rPr>
              <a:t> законі не прописано, але згідно з Дорожньою картою МЕ проект готується відповідно до наказу Мінекономрозвитку від 19.06.2012 № 724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відка про відсутність у суб’єкта господарювання простроченої заборгованості із сплати податків і зборів (обов’язкових платежів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кумент про відсутність стосовно суб’єкта господарювання порушеної справи про банкрутств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відка про відсутність у суб’єкта господарювання простроченої заборгованості із сплати єдиного внеску на загальнообов’язкове, державне соціальне страхуванн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писка з Єдиного державного реєстру юридичних осіб та фізичних осіб – підприємц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орма заяви для участі у відборі, а також інструкція щодо її заповненн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затверджені наказом Мінекономрозвитку від 12.12.2013 № 1475 "Про затвердження форми заяви для участі у відборі інвестиційних проектів у пріоритетних галузях економіки та інструкції щодо її заповнення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ідповідальність за повноту і достовірність відомостей, зазначених у документах, покладається на суб’єктів господарюванн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34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700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720" indent="-243720">
              <a:spcBef>
                <a:spcPts val="700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0680" indent="-220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13f9"/>
                </a:solidFill>
                <a:latin typeface="Arial"/>
              </a:rPr>
              <a:t>Для участі у відборі не допускаються інвестиційні проекти, якщ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уб’єкти господарювання, які їх реалізують, визнані банкрутами, перебувають у стадії припинення, мають прострочену заборгованість із сплати податків і зборів (обов’язкових платежів), єдиного внеску на загальнообов’язкове, державне соціальне страхування, а також із заробітної плати або щодо яких порушено справу про банкрут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акі проекти не відповідають затвердженим Кабінетом Міністрів України вимогам до інвестиційних проектів у пріоритетних галузях економі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67400" indent="-167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56c05"/>
                </a:solidFill>
                <a:latin typeface="Arial"/>
              </a:rPr>
              <a:t>Етап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блдержадміністрація здійснює п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еревірк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даних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інвестиційних проектів та їх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відбір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для подання на розгляд Мінекономрозвитку України </a:t>
            </a: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або відхилення та повернення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з обґрунтуванням причини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дповідність пункту 2 Порядку (заява та перелік документів описаних в попередніх слайдах етапу 1 – слайд 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ідповідність проектів затвердженим Кабінетом Міністрів України вимогам до інвестиційних проектів у пріоритетних галузях економіки. (слайд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ермін -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тягом п’яти робочих днів з дати їх надходжен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У разі повернення на доопрацюванн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суб’єкт господарювання після доопрацювання повернутих документів може повторно подати облдержадміністрації заяву разом з документами, передбаченими пунктом 2, зазначивши результати попереднього розгляду і вжиті зах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ідбір здійснюється облдержадміністрацією з урахуванням Вимог до інвестиційних проектів на регулярній основі, </a:t>
            </a:r>
            <a:r>
              <a:rPr b="0" i="1" lang="uk-UA" sz="1600" spc="-1" strike="noStrike">
                <a:solidFill>
                  <a:srgbClr val="000000"/>
                </a:solidFill>
                <a:latin typeface="Arial"/>
              </a:rPr>
              <a:t>але не рідше одного разу в тиждень  (у разі наявності відповідних пропозицій суб’єктів господарюва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0e06"/>
                </a:solidFill>
                <a:latin typeface="Arial"/>
              </a:rPr>
              <a:t>Механізм відбору, схвалення та реєстрації інвестиційних проектів у пріоритетних галузях економіки</a:t>
            </a:r>
            <a:endParaRPr b="1" lang="en-US" sz="2000" spc="-1" strike="noStrike">
              <a:solidFill>
                <a:srgbClr val="560e0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08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56c05"/>
                </a:solidFill>
                <a:latin typeface="Arial"/>
              </a:rPr>
              <a:t>Етап 3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Подан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обласними державними адміністраціями 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ідібраних інвестиційних проектів до Мінекономрозвитку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разом із заявами суб'єктів господарювання та документами, які до них додаю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(не пізніше, ніж на третій календарний день після проведення відбо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713f9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інекономрозвитку </a:t>
            </a:r>
            <a:r>
              <a:rPr b="1" lang="uk-UA" sz="2000" spc="-1" strike="noStrike">
                <a:solidFill>
                  <a:srgbClr val="0713f9"/>
                </a:solidFill>
                <a:latin typeface="Arial"/>
              </a:rPr>
              <a:t>у п’ятнадцятиденний строк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з дня надходження від облдержадміністрацій відібраних інвестиційних проектів та документів розглядає їх та подає в установленому порядку Кабінетові Міністрів України пропозиції щодо схвалення інвестиційних проектів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(проект рішення, погоджений із заінтересованими органами виконавчої вл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4-02-04T06:42:55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